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E0E-8C9C-457F-BDFF-4213DC34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937F-C69C-4809-B644-F440F8BE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B8C-EBED-42AE-BEF2-C2608C6C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D9EB-6139-45C1-B8AD-170A81D4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13C-FEB8-43A4-BE44-D72F86C9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20D9-DC33-4144-92A6-09F65A9E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EE8-9A87-48D0-AAEE-BDD13C09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9E0-E464-4EDB-9DB8-3938934E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4AF-B2E7-4408-BCB9-CBACE3D3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E7E-1B79-4612-9392-B17B2219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92E-8BCC-4615-98EE-30D3B01E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A0CAC66-7B74-4381-B723-D97B4B376DA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1434F24-5ECE-4962-95F0-49D5909D4DA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612595C-AC15-4288-805E-7B3676F0B45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76560"/>
            <a:ext cx="87660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-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e Powerpoint Fil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B42E840-D903-47DF-883C-F1023D5CB6B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885960" y="1596960"/>
            <a:ext cx="8082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Visual Aid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5040" y="1436760"/>
            <a:ext cx="7961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 Ai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mething you how the audience to help them understand your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Slides Using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PowerPoint is a software program designed for electronic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:  Google Presentation software can als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ware:  Open Office Present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6F19869-AB22-4471-BEBA-0A84C1C49B5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Powerpoint 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FA4F884-CFC3-435D-AAAF-4E80A4DCF73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90720" y="1819440"/>
            <a:ext cx="7696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6400" y="1495080"/>
            <a:ext cx="81504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he filename an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abs that organize program commands b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 But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re displayed on each ribbon. They execute a command or display a drop-down menu of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he commands are organized on the rib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AAD2B7B-5D85-41BE-B2F9-BF54BC546A1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s Ta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isplays small images of the slides that 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 ta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ys the number of each slide and the text that is included on each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holder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 with dotted borders that are part of most slide layou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old titles, body text, or objects (charts, tables, pi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0554677-8C08-487C-9031-A1800996075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37920" y="1464840"/>
            <a:ext cx="804852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you to key notes about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butt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you to view slides several different ways depending on what you are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information such as slide number and them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s the powerpoi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8BC7FE3-56EB-4339-A6AB-D736D095F7B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provides quick access to program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ve to slides by clicking and dragging the bar or clicking the arrow 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ous Slide/Next Slide but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play previous or next slide in presentati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A9D49AD-7754-41D6-8CA0-3F1A4AD3D40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Powerpoint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 View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orte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67F5F14-931C-4C24-8DA3-7DB0A1202FA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685960" y="1614600"/>
            <a:ext cx="4164120" cy="116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922320" y="3430440"/>
            <a:ext cx="3308400" cy="201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5345280" y="4106880"/>
            <a:ext cx="3420720" cy="2009880"/>
          </a:xfrm>
          <a:prstGeom prst="rect">
            <a:avLst/>
          </a:prstGeom>
          <a:ln w="0">
            <a:noFill/>
          </a:ln>
          <a:effectLst>
            <a:outerShdw dist="152225" dir="2700000" blurRad="0" rotWithShape="0">
              <a:srgbClr val="8f80b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View Butt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d for creating and editing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ort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humbnails of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view several slides at a time and to sort or rearrang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ho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d to play the presentation. Can also press F5 key on key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0099E33-867B-457F-BEE0-4696A703B43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6:54:20Z</dcterms:modified>
  <cp:revision>25</cp:revision>
  <dc:subject/>
  <dc:title>Slide 1</dc:title>
</cp:coreProperties>
</file>